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3E7FB245-B297-4A30-B450-CEAA170EE2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82880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24B1E77B-5ABA-47E9-B055-13BBBE7198EF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Rekursio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Funktsionaalne ja loogiline programmeerim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incredibly com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blueprints: g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enes are very small when compared to anim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contain copies of genes in huge am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ow is it possib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02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07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274680" y="914400"/>
            <a:ext cx="8412120" cy="564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se cas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no recursion involved!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cursive cases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guments of the recursive call must b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mpl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” according to some measu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B! The “simplicity” measure may be arbitrarily comple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13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recu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it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18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bar which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2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23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2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838080" y="762120"/>
            <a:ext cx="78487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28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2860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3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ple 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ore complex examp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33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r>
              <a:rPr b="0" lang="ar-SA" sz="16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r>
              <a:rPr b="0" lang="ar-SA" sz="16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38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xample: towers of Hano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al: move all the disks from Stack 0 to Stack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ck 2 can be used as a spare locatio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ly one disk at a time may be m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arger disk may never be on the smaller di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43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86520" cy="38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owers of Hanoi: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2860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TowersOfHanoi(int disks, int from, int to, int spare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disks == 1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from, spare,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spare, to, fro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149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ne v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5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90800" cy="429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ne vs imperatiiv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838080" y="990720"/>
            <a:ext cx="784872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ja -meetodeid saab klassifitseerida mitmel moel. Selle loengu kontekstis sobib jaotada programmeerimiskeeled kõigepealt kahte gruppi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d keeled] sobivad samm-sammult, kindlas  järjekorras täidetavate algoritmide esitamiseks. Programmid  kujutavad endast arvutile antavate käskude jada. Tuntumad imperatiivsed keeled on C, Basic, Pascal, Java,  objektorienteeritud keeled ja  assemblerkeel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mperatiivsete keelte pe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elis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on arvuti tegevuse täpse kontrollimise ja suunamise võimaldamine, mis enamasti tagab maksimaalse töökiirus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7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inuste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programmeerimise suur töömahukus - lahenduskäigu kõik detailid tuleb süsteemile esitada - ning suured raskused programmideanalüüsimisel, näiteks optimeerimise, verifitseerimise või paralleliseerimise tarvis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5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sed vs imperatiivse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d keel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obivad algoritmi esitamiseks  käskude jadast abstraktsemal viisil. Programmeerija ei pruugi alati kõiki algoritmi detaile kirja panna, vaid võib esitada otsitava lahenduse  kirjelduse , ning juba programmi täitmise käigus otsustab süsteem automaatselt, mis viisil täpselt seda lahendust otsi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teks keelteks võib lugeda loogilise programmeerimise keeled (näiteks Prolog) ja mitmed funktsionaalsed keeled (näiteks Haskell). Teoorias kasutatav  lambda-arvutus  on puhtalt funktsionaalse deklaratiivse keele nä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5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lussid ja miin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võimaldavad enamikku programme kiiremini ja mugavamalt kirjutada, kui imperatiivsed keeled - programmeerija ei pea kõigi detailide eest hoolt kandma. Tunduvalt lihtsam on ka programmide analüüs, näiteks programmi automaatsel kohandamisel paralleelarvutile, kus programmi täitmise juures töötab samaaegselt hulk protsessorei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ks miinuseks on programmide väiksem töökiirus - deklaratiivne programm ei pruugi küll alati aeglasem olla, kui imperatiivne, kuid on seda harilikult siiski. Põhjuseks on siin keele automaattranslaatori väiksem intelligentsus kogenud  programmeerijaga võrreldes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6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sed ja loogilised kee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jaotatak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unktsionaal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(näide: Haskell), kus lahendus kirjeldatakse funktsioonide kogu abil - ka viimast saab tegelikult käsitleda kui teatud tüüpi loogikasüstee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oogili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(näide: Prolog), kus otsitavat lahendust kirjeldatakse loogika kee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6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teisi funktsioone ja funktsiooni arvutamise resultaadiks võib samuti olla funktsio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 Funktsionaalne programmeerimine on ajalooliselt esime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 programmeerimi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iis, ning enamik kaasaegseid programmeerimiskeeli -- C, Pascal, Ada jne --  on funktsionaalse programmeerimise meetoditest mõjustatu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7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38080" y="990720"/>
            <a:ext cx="7848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0) =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n) = x*fakt(x-1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7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8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Bitstream Vera Sans"/>
              </a:rPr>
              <a:t>Puhtad ja kombineeritud funktsionaalsed kee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kombineeritu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funktsionaalses keeles -- Haskell, Hope, Miranda, FP -- ei ole programmeerijal peale funktsioonide defineerimise ja sisseehitatud baasfunktsioonide (aritmeetika, loendid jms) mingeid lisavahendeid -- kõik kõrvalefektid on keelatud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bineeritud funktsionaalsed keeled - ML, Lisp, Scheme -  kombineerivad puhaste funktsionaalsete keelte mehhanisme imperatiivsete mehhanismid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836640" y="365040"/>
            <a:ext cx="7767720" cy="308160"/>
            <a:chOff x="836640" y="365040"/>
            <a:chExt cx="7767720" cy="308160"/>
          </a:xfrm>
        </p:grpSpPr>
        <p:sp>
          <p:nvSpPr>
            <p:cNvPr id="189" name="Line 4"/>
            <p:cNvSpPr/>
            <p:nvPr/>
          </p:nvSpPr>
          <p:spPr>
            <a:xfrm>
              <a:off x="836640" y="668520"/>
              <a:ext cx="7765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 flipV="1">
              <a:off x="8604360" y="36504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838080" y="990720"/>
            <a:ext cx="78487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9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9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38080" y="762120"/>
            <a:ext cx="7848720" cy="60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d kind - infinite loop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 car is a ca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t fact(int x)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return fact(x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ood kind – loop is (hopefully) terminat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 "ancestor" is either a parent or an ancestor of a paren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nt fact (int x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f (x &lt;= 0) return 1;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else return x * fact(x-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60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0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f(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0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 ja muu puhtas lambda-arvut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leiutatud kodeerim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k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CC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 can be thought of as a function taking two natural numbers as arguments and returning a natural numb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LT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PLU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1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binatoorne loog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l minimaalsem, kui lambda-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iven S and K, I itself is unnecessary, since it can be built from the other tw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 = S K 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S K K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S K 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lambda-termi saab lihtsalt teisendada kombinaatorit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1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bineeritud keele näide: Sc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838080" y="990720"/>
            <a:ext cx="784872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good? x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&gt; 10 x) #t #f) 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every? fn lst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pair? lst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fn (car lst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fn (cdr lst)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f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t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good? ‘(10 40 50 2 100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((e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2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väga populaarne -- loogilise programmeerimise keel. Prolog-ile lisaks on välja töötatud mitmeid uuemaid loogilise programmeerimise keeli ja süsteeme, ning nende arendamine on ulatuslik ja levinud uurimisteema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2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3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3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838080" y="990720"/>
            <a:ext cx="784872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4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4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65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5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38080" y="990720"/>
            <a:ext cx="7848720" cy="61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5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6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2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79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70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78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84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90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914400" y="299880"/>
            <a:ext cx="7769160" cy="308160"/>
            <a:chOff x="914400" y="299880"/>
            <a:chExt cx="7769160" cy="308160"/>
          </a:xfrm>
        </p:grpSpPr>
        <p:sp>
          <p:nvSpPr>
            <p:cNvPr id="96" name="Line 4"/>
            <p:cNvSpPr/>
            <p:nvPr/>
          </p:nvSpPr>
          <p:spPr>
            <a:xfrm>
              <a:off x="914400" y="6033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83560" y="29988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2-11-26T09:34:31Z</dcterms:modified>
  <cp:revision>3</cp:revision>
  <dc:subject/>
  <dc:title>PowerPoint Presentation</dc:title>
</cp:coreProperties>
</file>